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7EC-03C8-445A-8229-39C5A84A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EAE-36C9-4F06-825A-AECB786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266-B8EB-4DC9-919D-8DB115DF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1D5-97A4-43AB-828D-59AD8BCD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7441-A5C3-46AC-8310-7D974967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6C06-CC09-489B-B8D2-A6911467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E389-D531-4AE0-B3C6-461CA353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2008-1548-49BF-937C-B38A3E10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A665-0E2F-4267-A206-5D08CB1C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8F05-9EDE-49C4-B922-611C0FD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51C2-9010-4868-9BED-310D6C0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5C1-B7C5-4632-94CB-50D05979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4BCF-99EA-45E9-BD10-955EAC73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2325-741B-4530-AD3A-31A29D9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B5BD-33F3-4F54-B542-64F01D89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B8B1-0C92-4B96-979B-6AE31076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212B-3779-424B-A0DA-5B65D549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61E-B729-4DB4-878A-F9B83AC6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E73-5A8C-4582-B5D0-893BE621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4EC-E3E4-4AFE-9A44-D53B7F2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4A8-4E79-47FF-88C8-8B1EEBD4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EAE-C7E2-4BEF-B41A-CE6548A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926-7F8E-4C36-9876-7DD35631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11A-C747-489E-9B19-93292315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D2E9-B83A-4D34-98F2-11905098790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5153-DB05-4ABB-A27C-E129CACCBB0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../&#24433;&#38899;&#36164;&#26009;/&#20843;&#24180;&#32423;&#19978;&#20876;/&#22914;&#27492;&#31454;&#20105;.rm" TargetMode="External"/><Relationship Id="rId3" Type="http://schemas.openxmlformats.org/officeDocument/2006/relationships/hyperlink" Target="file:///../../../../&#24433;&#38899;&#36164;&#26009;/&#20843;&#24180;&#32423;&#19978;&#20876;/&#22914;&#27492;&#31454;&#20105;.rm" TargetMode="External"/><Relationship Id="rId4" Type="http://schemas.openxmlformats.org/officeDocument/2006/relationships/hyperlink" Target="file:///../../../../&#24433;&#38899;&#36164;&#26009;/&#20843;&#24180;&#32423;&#19978;&#20876;/&#22914;&#27492;&#31454;&#20105;.rm" TargetMode="External"/><Relationship Id="rId5" Type="http://schemas.openxmlformats.org/officeDocument/2006/relationships/hyperlink" Target="file:///../../../../&#24433;&#38899;&#36164;&#26009;/&#20843;&#24180;&#32423;&#19978;&#20876;/&#22914;&#27492;&#31454;&#20105;.r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539640" y="981000"/>
            <a:ext cx="8064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八课 竞争合作求双赢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58920" y="486900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2556000" y="4581360"/>
            <a:ext cx="17269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竞争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4643280" y="4581360"/>
            <a:ext cx="172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合作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9528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第一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60120"/>
            <a:ext cx="74325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做一名合格的竞争者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979640" y="249228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835280" y="213372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消除忌妒心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68360" y="3645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培养健康良好的竞争意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2761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720" y="333360"/>
            <a:ext cx="4643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相信自己能够发挥最佳水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对竞争对手保持高度</a:t>
            </a:r>
            <a:r>
              <a:rPr b="1" lang="zh-CN" sz="2800" spc="-1" strike="noStrike">
                <a:solidFill>
                  <a:srgbClr val="007572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戒备</a:t>
            </a:r>
            <a:r>
              <a:rPr b="1" lang="zh-CN" sz="2800" spc="-1" strike="noStrike">
                <a:solidFill>
                  <a:srgbClr val="007572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对对手的不良处境“幸灾乐祸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崇尚公平竞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生怕别人超过自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保持良好心态，胜不骄、败不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试图通过某种不正当的方式压倒对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欢迎别人超过自己，更勇于超过别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55640" y="8701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良好的竞争意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00000" y="3429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良的竞争意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3492360" y="549000"/>
            <a:ext cx="1008360" cy="7189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492360" y="1413000"/>
            <a:ext cx="1079640" cy="936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492360" y="1413000"/>
            <a:ext cx="1008360" cy="1944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492360" y="1484280"/>
            <a:ext cx="1008360" cy="3529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3419640" y="1052280"/>
            <a:ext cx="1152360" cy="26636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3492360" y="1557000"/>
            <a:ext cx="1150920" cy="21589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3492360" y="2852640"/>
            <a:ext cx="1150920" cy="936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3635280" y="3789360"/>
            <a:ext cx="1008000" cy="360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2" name="Picture 14" descr="图片1７"/>
          <p:cNvPicPr/>
          <p:nvPr/>
        </p:nvPicPr>
        <p:blipFill>
          <a:blip r:embed="rId2"/>
          <a:stretch/>
        </p:blipFill>
        <p:spPr>
          <a:xfrm>
            <a:off x="7524720" y="5589720"/>
            <a:ext cx="1619280" cy="1268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图片1８"/>
          <p:cNvPicPr/>
          <p:nvPr/>
        </p:nvPicPr>
        <p:blipFill>
          <a:blip r:embed="rId3"/>
          <a:stretch/>
        </p:blipFill>
        <p:spPr>
          <a:xfrm>
            <a:off x="0" y="260280"/>
            <a:ext cx="9716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640" y="1484280"/>
            <a:ext cx="3538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乒乓绅士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49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届世乒赛上，萨姆索诺夫被裁判错判一球，在示意裁判后，仍然判他得分。在接下来的比赛中，一幕戏剧性的场面出现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7034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我所追求的不仅是获胜，也追求一种公平竞争的环境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萨姆索诺夫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00000" y="6922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竞争的规则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1773360"/>
            <a:ext cx="976320" cy="431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064200" y="155736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70d3d"/>
                </a:solidFill>
                <a:latin typeface="Arial"/>
              </a:rPr>
              <a:t>公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小品</a:t>
            </a:r>
            <a:r>
              <a:rPr b="0" lang="en-US" sz="4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《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如此竞争</a:t>
            </a:r>
            <a:r>
              <a:rPr b="0" lang="en-US" sz="44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76360" y="1773360"/>
            <a:ext cx="446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小品中的竞争是否合理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这种不正当竞争行为会带来式样后果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042920" y="1197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日趋激烈的市场竞争中，有一些不法经营者，为了在激烈的竞争中取胜，投机取巧，采取一些不正当的手段，比如，窃取对手的商业机密，替对手做负面宣传等等。你认为这样的竞争可以吗？为什么？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55640" y="350028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答：⑴不可以。⑵竞争是基于一定规则进行的。规则对每个竞争者一视同仁，这就是公平。道德和法律，是我们在竞争中必须遵守的基本准则。⑶如果在竞争中采取不正当的手段，轻则违背道德良心，重则触犯国家法律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468360" y="620640"/>
            <a:ext cx="8207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河南省信阳市某高级中学的高三女生马娟，因为忌妒同班一位叫晶晶的女生的学习成绩，居然买来硫酸，泼向熟睡中的同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　　马娟说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因为晶晶比较聪明，比我学习好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有时晶晶和我说话很伤我的自尊，我心里对晶晶很有气。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2003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20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日又要考试了，我心里的压力比较大，决定想办法耽误一下晶晶的学习时间，这样可以满足我的虚荣心，以免和她的学习成绩相差太远。考虑再三，我于是选定了泼硫酸这个办法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”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惨痛的教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529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日，信阳市中级人民法院做出判决：被告人马娟因忌妒他人，采用泼硫酸的手段，致一人重伤且造成严重残疾，一人轻微伤。犯罪手段极其残忍，后果特别严重，其行为已构成故意伤害罪，判处死刑，剥夺政治权利终身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00000" y="6922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竞争的规则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4932360" y="1773360"/>
            <a:ext cx="976320" cy="431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476360" y="2852640"/>
            <a:ext cx="40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Arial"/>
              </a:rPr>
              <a:t>竞争的基本准则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6084720" y="2421000"/>
            <a:ext cx="1800360" cy="79200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13842"/>
              <a:gd name="adj5" fmla="val 102203"/>
              <a:gd name="adj6" fmla="val -48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70d3d"/>
                </a:solidFill>
                <a:latin typeface="Arial"/>
              </a:rPr>
              <a:t>道德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6156360" y="3429000"/>
            <a:ext cx="1871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7296"/>
              <a:gd name="adj5" fmla="val -23037"/>
              <a:gd name="adj6" fmla="val -486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70d3d"/>
                </a:solidFill>
                <a:latin typeface="Arial"/>
              </a:rPr>
              <a:t>法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6064200" y="155736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70d3d"/>
                </a:solidFill>
                <a:latin typeface="Arial"/>
              </a:rPr>
              <a:t>公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539640" y="0"/>
            <a:ext cx="5975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生活在这竞争的社会中，你感受到了吗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79280" y="198900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请谈谈我们身边的竞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1763640" y="3933720"/>
            <a:ext cx="230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社会生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5076720" y="3933720"/>
            <a:ext cx="17272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学校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liutainei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273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zhengshouhuquan"/>
          <p:cNvPicPr/>
          <p:nvPr/>
        </p:nvPicPr>
        <p:blipFill>
          <a:blip r:embed="rId3"/>
          <a:stretch/>
        </p:blipFill>
        <p:spPr>
          <a:xfrm>
            <a:off x="4500720" y="0"/>
            <a:ext cx="2581200" cy="2816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924280"/>
            <a:ext cx="8820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教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9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字回答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刘国梁和孔令辉是怎样对待竞争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比赛必然伤和气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怎样才能做到既不伤和气，又打到比赛目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24000" y="549360"/>
            <a:ext cx="42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刘国梁与孔令辉在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场上是对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场下是朋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24000" y="3573360"/>
            <a:ext cx="820872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68360" y="4797360"/>
            <a:ext cx="777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1116000" y="2637000"/>
            <a:ext cx="70563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参与竞争的目的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超越自我、开发潜能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激发热情，提高工作效率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取长补短，共同进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ish_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3" descr=""/>
          <p:cNvPicPr/>
          <p:nvPr/>
        </p:nvPicPr>
        <p:blipFill>
          <a:blip r:embed="rId3"/>
          <a:stretch/>
        </p:blipFill>
        <p:spPr>
          <a:xfrm>
            <a:off x="463680" y="1908000"/>
            <a:ext cx="81738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 rot="204000">
            <a:off x="1042920" y="333360"/>
            <a:ext cx="748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竞争对人的发展和社会进步有促进作用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755640" y="2060640"/>
            <a:ext cx="784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竞争赋予我们压力和动力，激发潜能，提高学习和工作的效率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竞争能使我们客观地评价自己，发现自己的局限性，提高自己的水平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竞争能使集体更富有生气，丰富我们的生活，增添学习和生活的乐趣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683320" y="587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竞争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6732720" y="5805360"/>
            <a:ext cx="2057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“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利”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 rot="272400">
            <a:off x="1258560" y="549360"/>
            <a:ext cx="411480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竞争有不利的一面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68360" y="1773360"/>
            <a:ext cx="8209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可能使获胜者骄傲自大，使失败者丧失信心、产生自卑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竞争的压力可能引起我们心情的过分紧张和焦虑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可能会出现怨恨别人超过自己的忌妒心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5680" y="5589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竞争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3059280" y="5516640"/>
            <a:ext cx="6951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弊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77835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一封初二女生的来信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619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XX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老师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我想和您谈谈友谊的问题。上了初中以后，我自以为和班上的一名女生成了好朋友，形影不离，我们的成绩都很好。但我后来发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当有人嫉妒你的时候你该怎么办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你对克服嫉妒心理有什么高招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067280" y="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忌妒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0920" y="62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Tahoma"/>
              </a:rPr>
              <a:t>忌妒是一种微妙的情感，强烈而又隐蔽，自己对自己也不愿意承认，却又时不时地表现出来。忌妒很伤人，很降低人，使自己变蠢变得可笑、可悲、可厌。一个人越是掩饰自己的忌妒，就越容易被别人觉察出来。忌妒是弱者的激情，因为他除了忌妒还是忌妒，做不出什么能使自己感到自豪，使自己的心理变得平衡的事。强者以理智以道德以大局为重的心胸把握自己、克服自己，以竞争心进取心改造和取代忌妒心，用光明的奋斗驱散忌妒的阴影。弱者以冠冕堂皇、滔滔不绝、气急败坏的说词掩盖自己的报复心、恶毒心、败坏心。诽谤和中伤是他们的生活方式，渐渐的他们活着的目的不是为了自己要做什么，而是为了不让别人做事。不是为了自己要做出成绩，而是为了不叫别人做出成绩。据说在南亚流行着这样一个故事：上帝告诉某人，上帝可以满足他的要求，赐给他所要求的任何一样东西。条件是：给他的邻人双倍的同样的东西。这个某人想了一想，说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Tahoma"/>
              </a:rPr>
              <a:t>神圣的上帝呀，请挖掉我的一颗眼珠吧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!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                           ------</a:t>
            </a:r>
            <a:r>
              <a:rPr b="0" lang="zh-CN" sz="1800" spc="-1" strike="noStrike">
                <a:solidFill>
                  <a:srgbClr val="0033cc"/>
                </a:solidFill>
                <a:latin typeface="Tahoma"/>
              </a:rPr>
              <a:t>王蒙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00000" y="9810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同学们都说小利是个“评论家”，你看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老师表扬王平期中考试全班第一，小利不以为然地评论：“碰巧而已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听到同学赞扬班长工作认真，热心助人，小利表现出不屑一顾的神情，评论道：“他的数学成绩还不如我！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瞧着光荣榜上“三好学生”中林丽的名字，小利不服气地评论：“她身体好吗？这个学期请了三次病假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阅读完“评论家的事迹”后，回答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小利处处挑别人毛病的心理正常吗？为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这个事例给我们什么启示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政治备课大师 zz.eywedu.net【全免费】</dc:creator>
  <dc:description>政治备课大师 zz.eywedu.net【全免费】</dc:description>
  <cp:keywords/>
  <dc:language>en-US</dc:language>
  <cp:lastModifiedBy>备课大师</cp:lastModifiedBy>
  <dcterms:modified xsi:type="dcterms:W3CDTF">2015-12-01T05:01:16Z</dcterms:modified>
  <cp:revision>3</cp:revision>
  <dc:subject> </dc:subject>
  <dc:title>政治备课大师 zz.eywedu.net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